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603-91BC-44A7-96E0-13E40430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31E-8A09-4DAF-9DE8-67B5F662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BB7-22DF-48F4-A98C-7825B7D4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1DE-C820-4291-A3FB-C8CE721E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645-2850-40ED-B954-21368431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DB65-2C57-43F9-BCE8-B70E54E6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1DE4-1B5B-4A5C-B5F3-AFCCA07C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68D3-8B81-4415-953C-BE1A30C3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8259-D798-43D2-9F34-B5905E38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B18A-A6A1-477C-93C1-6FD3A9D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BB0-A3D2-4F65-AE1B-B3E90B9F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C4F4-0E76-4D01-86E4-3F877A30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13D1-A9AE-48FB-93F5-21BBE55A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48C1-B6E9-4794-BAEC-50EA4282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C837-1FE9-4A61-8E0E-D85A09B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6F47-F198-44F0-B7D0-FE83CD0C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9094-735B-4ABF-8FEA-EDEBDA59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4F0B-0659-4DB4-9DFE-AE2138FD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D33-C2B1-4CAB-8B97-9FCD6D89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C72-2096-4576-B69D-87DF1005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44C-8A22-40FF-8027-B6A6D679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C42-4836-4E0B-9FB5-DA07ACF1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C47-33CC-4D24-AA32-72F4F884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E15-C1CE-492D-9C54-4C0BFFDD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6C44-495B-4DC8-9327-D9B99811B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DBCB-E6A4-4142-8A44-B815EAE9438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маковигиланц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охортне студије у фармаковигиланци: дизајн, применљивост и интеграција резулта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h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раз "кохорта" потиче од латинске реч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hor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Римске легије биле су састављене од десет кохорти. Током борбе свака кохорта, односно војна јединица, која се састојала од одређеног броја ратника и командирских центуриона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огла се тачно локализовати и координира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ч „кохорта“ је усвојена у епидемиологији да би дефинисала скуп људи који су праћени током одређеног време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.H. Fros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пидемиолог из раних 1900-их, био је први који је у својој публикацији из 1935. године употребио реч „кохорт“ процењујући специфичну стопу смртности и туберкуло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времена епидемиолошка дефиниција речи сада значи „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па људи са дефинисаним карактеристикама који се прате да би се утврдила учесталост или смртност од неке специфичне болести, свих узрока смрти или неког другог исхо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ро дизајнирана кохорт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 пружити поуздане резулта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улација се идентификује према изложености или догађају од интереса, а следи на време док се не појави болест или исход од интере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што је изложеност идентификована пре исхода, кохортне студије имају временски оквир за процену узрочно-посљедичне повезаности и на тај начин имају потенцијал да пруже најјаче научне дока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бно корисне за испитивање ретких експозиција јер су субјекти изабрани према статусу изложе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тељ може истовремено да испита више исх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ци укључују потребу за великом величином узорка и потенцијално дугим трајањем праћења дизајна студије што истраживање чини скуп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хортне студије могу бити проспективне или ретроспекти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спективне 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оде се  из садашњег времена у будућнос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зајниране су са одређеним методама прикупљања подата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ност - прилагођена за прикупљање одређених података о изложености и може бити потпун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-  дуг период праћења док се чекају појаве или боле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ај дизајн студије неефикасан за испитивање болести са дугим латенцијалним периодима и подложан је великом губитку праћења пацијен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ако су перспективне кохортне студије непроцењиве као што показује примјер познат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ramingham Heart Study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почетог 1948. и још увек тра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троспективне кохортне студије су боље назначене с обзиром на правовременост и јефтину природу дизајна студ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троспективне 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Историјске кохортне студије», спроводе се у данашње време и гледају у прошлост да би испитале медицинске догађаје или исх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адашње време је изабрана група испитаника на основу статуса изложености, а подаци о исходу (статус болести, статус догађаја), који су мерени у прошлости, реконструишу се ради анализ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– ограничена је контрола коју истраживач има над прикупљањем подата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јећи подаци могу бити непотпуни, нетачни или недоследно мерени између субјек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бог непосредне доступности података, овај је дизајн студије релативно јефтинији и краћи од проспективних кохортних студ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ност - непосредан приступ подаци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- ограничена контрола прикупљања подата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лика је између кохортних студија и серије случајев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hort studies vs. cas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ка између ове две врсте студија је присуство контролне, или неекспониране, груп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разлику од епидемиолошких кохортних студија, серије случајева су дескриптивне студије које прате једну малу груп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лучај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 суштини, они су продужеци извештаја о случајевим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ично су случајеви добијени из искустава аутора, обично укључују мали број пацијената, и што је још важније, недостаје контролна гру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сто постоји конфузија у именовању студија као „кохортних студија“ када се испитује само једна група испита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пак, осим ако није присутна друга упоредна група која служи као контрола, ове студије су дефинисане као серија случаје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ећи корак у јачању опажања из серије случајева је одабир одговарајућих контролних група за спровођење кохорте или студије о контроли случа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бор субјеката из кохортних студ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ктеристика кохортне студије је дефинисање одабране групе субјеката према статусу изложености на почетку истраг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итична карактеристика одабира субјекта је да се и изложене и неекспониране групе изаберу из исте изворне популац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јекти који нису изложени ризику за развој исхода потребно је да су  искључени из студ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орна популација одређена је практичним разматрањима, као што је узорковањ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јекти се могу ефикасно узорковати из болнице, бити чланови неке заједнице или из приватне праксе лека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уп ових субјеката ће бити прихватљив за ову студи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тврђивање пристраности (губитак због праћења) -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ttrition Bi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пективне кохортне студије могу захтевати дуге периоде праћења, важно је да минимизирате губитак приликом праћењ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битак због праћења је ситуација у којој истраживач губи контакт са субјектом, што резултира недостатком подата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о је превише субјеката изгубљено за праћење, смањује се интерна валидност студ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ште правило захтева да стопа губитка због праћења не прелази 20% узор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аке систематске разлике везане за исход или изложеност факторима ризика између оних који одустану и оних који остану у истраживању морају се испитати , ако је могуће, упоређивањем појединаца који остају у студији и оних који су изгубили због праћења или који су напусти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одабрати субјекте који ће се пратити током целог трајања кохортне студ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пидемиолог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на јавног здравља, чија је улога да омогући разумевање дистрибуције, узрока и ефекта неке болести у заједница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учава факторе и односе који одређују присуство, број, трендове и дистрибуцију болести у заједницама и код специфичних попул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охортне студ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733920" y="2895480"/>
          <a:ext cx="5111640" cy="3384720"/>
        </p:xfrm>
        <a:graphic>
          <a:graphicData uri="http://schemas.openxmlformats.org/drawingml/2006/table">
            <a:tbl>
              <a:tblPr/>
              <a:tblGrid>
                <a:gridCol w="1834920"/>
                <a:gridCol w="1573200"/>
                <a:gridCol w="1703520"/>
              </a:tblGrid>
              <a:tr h="19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а оболел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а необоле-л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лож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злож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пекти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троспективн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азе извођења 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 кохор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ђење података о изложе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а на изложене и незложене аген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ћење учесталости оболе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врђивање пропорције оболелих међу изложеним и неизложеним особ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3"/>
          <p:cNvSpPr/>
          <p:nvPr/>
        </p:nvSpPr>
        <p:spPr>
          <a:xfrm>
            <a:off x="4500720" y="285840"/>
            <a:ext cx="4222440" cy="1881000"/>
          </a:xfrm>
          <a:prstGeom prst="wedgeEllipseCallout">
            <a:avLst>
              <a:gd name="adj1" fmla="val -34995"/>
              <a:gd name="adj2" fmla="val 70861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Comic Sans MS"/>
              </a:rPr>
              <a:t>Vade mecum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Comic Sans MS"/>
              </a:rPr>
              <a:t>Una lectio non facit doctor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хортне студије и фармаковигила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активна фармаковигила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маркетиншко праћење леков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4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ном епидемиолошких метода утврђује се учесталост нежељених дејстава, пореди се безбедност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тинска фармаковигила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нтано пријављивање нежељених дејстав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ривање СИГНАЛ-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активна фармаковигиланца и безбедност биолошки сличних ле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зајн праћења - систематична евиденција циљаних података кроз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лтицентрич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хорт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интервенцијско 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пективно праћењ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отехнологија - 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отехнологија означава сваку технолошку примену која користи биолошке системе, живе организме или њихове деривате да би начинила или модификовала производе или процесе за специфичну приме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оеквивален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ва фармацеутска производа се сматрају биоеквивалентним, ако поред истих фармацеутских одлика показују и исти степен биолошке расположивости, т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да после примене исте дозе имају приближно исту брзину ослобађања и степен апсорпције. У унакрсном испитивању на две мање групе испитаника, обично добровољаца, пореде 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ксимална постигнута концетрација у плазм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C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ме у коме се постиже максимална конце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T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упно апсорбована количина коју показују површина испод криве концетрације у времену (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AUC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, Area Under Concentration Curv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офармацеутски 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 врло сложени хемијски молекули створени новим технологијама. Мале разлике у производном процесу могу утицати на њихове физичко-хемијске особине, као што ј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ватерна структура пепти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лика у гликолизацији гликопротеина и другим параметри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осимилари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е у производном процесу биотехнолошких лекова и лекова мале молекулске мас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уни одговор на примену биосимила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ктори који утичу на имугено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цифичности издавања дозволе за стављање у промет и примене биосимила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сновне смернице за регистрацију биосимил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 принципи легислати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ферентни л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маркетиншка фармаковигилан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путство за процену биотехнолошких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дентификације и карактеристике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ћења и процене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нимизирање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икација у вези спречавања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лан регулисања ризика </a:t>
            </a:r>
            <a:br>
              <a:rPr sz="4000"/>
            </a:br>
            <a:r>
              <a:rPr b="0" i="1" lang="sr-Latn-CS" sz="4000" spc="-1" strike="noStrike">
                <a:solidFill>
                  <a:srgbClr val="000000"/>
                </a:solidFill>
                <a:latin typeface="Calibri"/>
              </a:rPr>
              <a:t>(Risk Management Pla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анирање фармаковигиланц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фикација безбе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 спровођења фармаковигиланц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улисање спречавања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на потреба за мерама спречавања риз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 минимизирања риз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имери биофармацеутских произв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поет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с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ферон ал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ферон б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ормон 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о-стимулирајући хорм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3"/>
          <p:cNvSpPr/>
          <p:nvPr/>
        </p:nvSpPr>
        <p:spPr>
          <a:xfrm>
            <a:off x="4500720" y="285840"/>
            <a:ext cx="4222440" cy="1881000"/>
          </a:xfrm>
          <a:prstGeom prst="wedgeEllipseCallout">
            <a:avLst>
              <a:gd name="adj1" fmla="val -34995"/>
              <a:gd name="adj2" fmla="val 70861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Пођи самном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Једно читање не чини учитеља</a:t>
            </a:r>
            <a:r>
              <a:rPr b="0" i="1" lang="sr-Latn-CS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хортна студија - упоредила 90 000 пацијената који су били изложени ко-амоксиклаву са 360 000 пацијената који су били изложени амоксицил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удија је утврдила да је код корисника ко-амоксиклава шест пута већа вероватноћа да ће доживети акутну токсичност на јет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2286000" y="6127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НИВЕРЗИТЕТ У БЕОГРАДУ МЕДИЦИНСКИ ФАКУЛТ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Јасна М. Гачић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кторска дисерта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оград 20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914400" y="6858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вод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етаболички синдром (МС) и слични метаболички поремећаји приказани су као фактор ризика за настанак колоректалног карцинома (КРК). Циљ ове студије био је да се истражи потенцијална улога МС у патогенези КРК. Такође, упоређивани су и нивои серумских инфламаторних и туморских маркера, као и вредности биохемијских параметара са присуством МС код пацијената са КР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14400" y="685800"/>
            <a:ext cx="73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тоде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Ретроспективна кохортна студија обухватила је 194 болесника са дијагностикованим КРК, који су подељени у две група на основу присуства МС. Подаци су прикупљани из историја болести као и на основу мерења болесника (телесна тежина, висина, обим струка), на одељењу Опште хирургије Клиничко болничког центра „Бежанијска коса“ у Београду. Испитивани су биохемијски параметри, као и нивои ЦЕА, ЦА 19-9, АФП и ЦРП који су упоређивани са присуством М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533520" y="533520"/>
            <a:ext cx="8229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зултати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Вредности индекса телесне масе, обима струка, систолног притиска, глукозе и триглицерида били су статистички значајно повишени код пацијената са КРК ког којих је дијагностикован МС, док су вредности ХДЛ-холестерола били значајно снижени. Број компоненти метаболичког синдрома био је значајно мањи 3 месеца након хируршке интервенције. Вредности аланинин аминотрансферазе, аспартат аминотрансферазе, алкалне фосфатазе, директног и укупног билирубина, укупних протеина, урее и креатинина нису се значајно разликовале међу испитиваним групама. Уочено је значајно смањење вредности ЦРП међу испитиваним групама три месеца након хируршке интервенције. Вредности АФП и ЦЕА биле су повишене и знад граничних вредности међу пацијентима са метаболичким синдромом, али уочене разлике нису биле статистички значајне. Вредност ЦА 19-9 биле су статистички значајно веће у групи са метаболичким синдромом и пре и 3 месеца постопеативно, али вредности испитиваног маркера нису прелазиле граничне вред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14400" y="685800"/>
            <a:ext cx="731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кључак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Резултати ове студије указују на могућу повезаност између присуства МС и повећаног ризика за настанак КРК. Потребно је спровести велике проспективне студије д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 се испитала потецијална улога серумских маркера у скринингу КРК код пацијената код којих је дијагностикован М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914400" y="685800"/>
            <a:ext cx="73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иљеви истраживања су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ат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актор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оби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ука,   хипертензија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ипергликемија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ипертриглицеридемија и смањен вредности ХДЛ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олестерола) је најчешци код КР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ати да ли постоје специфиност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абораторијских анализа (крвна слика, биохемија) код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сника који имају МС и КР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нализирати утицај интерреакције стадијума КРК и МС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неспецифицне запаљенске факторе и тумор маркер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 КР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04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лигенција без амбиције је попут птице без крила.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Salvador Domingo Felipe Jacinto Dal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ја амбиција је да у десет реченица кажем шта други кажу у целој књизи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riedrich Wilhelm Nietzs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, истина је да ја увек предузмем више него што могу да остварим. – Никола Те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едицина заснована на чињеница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весна, експлицитна и правична примена најпознатијих савремених чињеница при доношењу медицинских одлука које се тичу појединачног пацијент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ack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ласификација препору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иво док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кази из мета анализа мултицентричних, добро дизајнираних контролисаних студија. Рандомизиране студије са ниско лажно позитивним и ниским лажно негативним грешкама (висока поузданост студиј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кази из најмање једне добро дизајниране експерименталне студије. Рандомизиране студије са високо лажно позитивним и/или негативним грешкама (ниска поузданост студиј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нсензус експер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тепен препору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стоје докази да је одређена процедура или терапија употребљива или корис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ања где су мишљења и докази супроставље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a. Процена ставова/доказа је у корист употребљив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b. Применљивост је мање документована на основу док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ања за која постоје докази или генерално слагање да процедура није применљива и у неким случајевима може бити штет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иомедицинска истражи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6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врха истраживањ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ис стања у популациј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езаност између ризичног чиниоца и бол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ређење делотворности два третмана (лек, медицинско средство, оперативни захв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ела истраживања пре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ро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еориј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мпириј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Циљ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њена (апликативна)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азична (темељна, фундаментална)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унк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ксплорати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смерена проверавању хипотез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дела истраживања према начину расподеле испита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алитичка истраживања (студије)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alytic stud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ажајна (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bservational studies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опсервациона истраживања, “неексперименталне студије”)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ње случај-контрол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se control 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dy): ретроспекти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хортно истраживање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hort stud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: проспективно, ретроспекти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удије пресек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ross-sectional stud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: пресечено истражива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тервентна (експериментална) истраживања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xperimental stud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ња без контролне групе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controll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ња са контролном групом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troll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ерандомизирана клиничка истраживањ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randomiz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ндомизирана клиничка истраживањ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andomiz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 algn="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 algn="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oseph Eisenberg,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пажајна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bservational stud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опсервациона истраживањ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 истраживањ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ерминолошке недоуми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30178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страживање случај-контрол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ase control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dy): ретроспектив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траживање парова, истраживање случај-парњак, студија анамнезе случајева – ретроспективна студија, анамнестичке студ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охортно истраживањ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hort stud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: проспективно, ретроспектив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удије праћења, лонгитудиналне студије, студије инцид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тудије пресек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ross-sectional stud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сечено истраживање, фотографско истраживање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napshot 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arko</cp:lastModifiedBy>
  <dcterms:modified xsi:type="dcterms:W3CDTF">2021-08-24T06:39:15Z</dcterms:modified>
  <cp:revision>36</cp:revision>
  <dc:subject/>
  <dc:title>Развој фармацеутске делатности</dc:title>
</cp:coreProperties>
</file>